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521-93ED-4D4C-A6B0-583642AE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46E-4587-42C9-A60A-DA5E0CF1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209-0EA0-4511-834D-8F358251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A42-BCD1-4075-AF6C-D79A2BCC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EC6-4DBF-4280-9133-1B2F2ED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F11-8651-46AD-BCC9-6FC2FC8D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400-9ED4-4CFE-88B0-D5B552F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F09-A650-450C-B04D-6E803DAB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1C4-78A9-4078-B9D4-CFAB2EB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15E-5315-4256-BCA6-385D756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60E-0C7F-4740-9214-E014D816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0F7-F8A3-49C9-924C-F602FB3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D2AB-6CE6-4936-AD96-821CA8B58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" y="1355760"/>
            <a:ext cx="8346240" cy="336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най-славно име на света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Ти чуваш моята молб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щом падна даваш ми ръка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300" spc="-1" strike="noStrike">
                <a:solidFill>
                  <a:srgbClr val="ffffff"/>
                </a:solidFill>
                <a:latin typeface="Times New Roman"/>
                <a:ea typeface="Arial"/>
              </a:rPr>
              <a:t>най-славно име на свет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1800" y="1708200"/>
            <a:ext cx="836172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Ти Си достоен за хвал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Ти същият Си и се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премахни моята вин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най-славно име на све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4720" y="1666800"/>
            <a:ext cx="7951680" cy="2775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Ти идваш скоро от неб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аз чакам с нетърп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Исус, ще пея с радостно сърц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най-славно име на св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0:00:54Z</dcterms:created>
  <dc:creator>TrifonTrifonow</dc:creator>
  <dc:description/>
  <dc:language>en-US</dc:language>
  <cp:lastModifiedBy>TrifonTrifonow</cp:lastModifiedBy>
  <dcterms:modified xsi:type="dcterms:W3CDTF">2005-09-19T10:13:47Z</dcterms:modified>
  <cp:revision>3</cp:revision>
  <dc:subject/>
  <dc:title>Slide 1</dc:title>
</cp:coreProperties>
</file>